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0CAE-E2C4-4099-AC31-4055C889A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1E07-AE79-4021-824B-99F6E9C1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99E6-58A1-4F39-9EC1-794BA4F13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59FD-D3C5-473B-97CC-5D17DD8A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2119-0746-4A31-BE88-71B074435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180D-45FE-44EC-9A07-40A69D84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B9B6-02CE-41CF-8C20-290A69A2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0CC0-1F91-42F1-AF24-E34DA77C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D987-53E6-49D2-B4D6-F364B056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363C-E9BD-43DE-93A8-2BE04129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0D14-3B85-40AF-8FD2-9BCFC8CF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98AE-B7AE-4EBC-B337-B164E048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1F06-FED5-4EA6-8603-C9B94D1B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E9E9-EBE9-4C53-BD5A-B1265933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C72A-66FA-43C9-8CA7-2130E210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C5B4-E3C2-4C7D-BD36-D7F3EBAA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C04B-009C-4B43-83B8-25EC1F8A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384B-EFA2-4E3F-816C-56A8FD59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E20B-A270-49E8-9EF0-93D7C4A9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93BE-289E-4A83-942A-0C3A9E16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6593-1A32-47A3-B3E5-772B0C10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B215-2BC5-4AC4-91DC-4FAABAB3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0A00-8CE0-47A8-B0D3-A34F0CBC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1754-4B9B-4095-9CFA-D71B193F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2B10-126B-403B-9645-7AC0D48A10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1770-3413-4BD3-9B0D-A4691CFE2B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erriam-webster.com/home.ht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pic>
        <p:nvPicPr>
          <p:cNvPr id="82" name="Picture 16" descr="scistartlogo2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83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Biochemistry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84" name="Picture 8" descr="C:\Users\Liz\AppData\Local\Microsoft\Windows\Temporary Internet Files\Content.IE5\CPHVRLKO\MCj02296450000[1].wmf"/>
          <p:cNvPicPr/>
          <p:nvPr/>
        </p:nvPicPr>
        <p:blipFill>
          <a:blip r:embed="rId3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5080" y="2487240"/>
            <a:ext cx="75157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difference between inorga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unds and organic compounds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>
            <a:hlinkClick r:id="rId2"/>
          </p:cNvPr>
          <p:cNvSpPr/>
          <p:nvPr/>
        </p:nvSpPr>
        <p:spPr>
          <a:xfrm>
            <a:off x="3962520" y="380988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394" h="21600">
                <a:moveTo>
                  <a:pt x="1319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394" h="21600">
                <a:moveTo>
                  <a:pt x="10621" y="8224"/>
                </a:moveTo>
                <a:lnTo>
                  <a:pt x="14485" y="8224"/>
                </a:lnTo>
                <a:lnTo>
                  <a:pt x="14485" y="15221"/>
                </a:lnTo>
                <a:lnTo>
                  <a:pt x="15773" y="15221"/>
                </a:lnTo>
                <a:lnTo>
                  <a:pt x="15773" y="16144"/>
                </a:lnTo>
                <a:lnTo>
                  <a:pt x="10621" y="16144"/>
                </a:lnTo>
                <a:lnTo>
                  <a:pt x="10621" y="15221"/>
                </a:lnTo>
                <a:lnTo>
                  <a:pt x="11909" y="15221"/>
                </a:lnTo>
                <a:lnTo>
                  <a:pt x="11909" y="9129"/>
                </a:lnTo>
                <a:lnTo>
                  <a:pt x="10621" y="912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3:11:52Z</dcterms:created>
  <dc:creator>PritchaJ</dc:creator>
  <dc:description/>
  <dc:language>en-US</dc:language>
  <cp:lastModifiedBy>PritchaJ</cp:lastModifiedBy>
  <dcterms:modified xsi:type="dcterms:W3CDTF">2011-06-01T13:12:33Z</dcterms:modified>
  <cp:revision>1</cp:revision>
  <dc:subject/>
  <dc:title>Slide 1</dc:title>
</cp:coreProperties>
</file>